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9CA-EF62-4C3F-8857-5B68EA03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EEA-41ED-4D4D-8D57-EC993C6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BC-5067-4DF1-85A9-2B1946F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EEE-ED3C-4768-A088-E2BC1293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D83-E011-4978-99E2-2B98918D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3DF-6E7F-4004-97E4-7790EED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1C4-DB9A-4829-A47D-27F252AB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A4B6-0453-4E1F-96D9-F106EE2B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0BEB-8DA0-4A42-9144-80B0410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D14-2926-4096-A20F-3A115F1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3E5-499B-4A5B-B756-0A36B74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4C9-180C-4BE2-BFCC-36C9B29F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52A-C2DF-4A6A-949C-2F9D35D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3FB-36EE-4F0B-915A-523E9DB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D66-D5D7-4F59-8362-50BE37C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C53-813C-492C-B7BB-055640DB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944E-9A18-418A-965E-2A10E99B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5B4-8768-41E8-B209-49209AE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DBB-505F-4034-8B20-C7705B4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86F-6A77-43E3-8125-CA24CE9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CFF-0775-4507-9F21-9586A1BE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3A3-46C8-466B-A3EB-A5FEE1F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9FB-B976-4EEF-842C-BA4B419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090-DEF8-486C-AE3D-8D6DAC4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9CE-4AC1-430A-96CF-9275C9D87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ERWICK BARBADOS.JPG"/>
          <p:cNvPicPr/>
          <p:nvPr/>
        </p:nvPicPr>
        <p:blipFill>
          <a:blip r:embed="rId2"/>
          <a:stretch/>
        </p:blipFill>
        <p:spPr>
          <a:xfrm>
            <a:off x="457200" y="304920"/>
            <a:ext cx="1916280" cy="931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4D6-7636-4611-BEFF-D19FBFC4D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23520"/>
            <a:ext cx="541008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NERAL 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. DESIGN CRITER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COUSTIC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Exhaust System: 85 DBA - 3FT FROM EQUIPMENT, 5FT ABOVE G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5 DBA - 400 FEET FOR ONE UNIT IN OP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ECHANICA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Exhaust System: EXHAUST INTERNAL DESIGN PRES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SIGN PRESSURE DUCT +18"/-2" W.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SIGN PRESSURE STACK +12"/-2" W.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PERATING PRESSURE ALL +8"/-2" W.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RUCTURA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SEE DRAWING A-9656-001 SHE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LOW COND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MAX FLOW RATE 269 LBM/S AT 848°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MAX EXHAUST TEMP - 1,000°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. COMPONENTS / CONSTR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PANSION JOINT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04 STAINLESS STEEL HOT-SIDE FRAME, BACKING BARS AND FLOW L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HEMFAB 1000BF BELT WITH FIBER GLASS INSULATION AND WIRE-FLEXT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CKING CLO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ARBON STEEL COLD SIDE FrAME PAIN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ACK BASE, ELBOW &amp; STACK BREECH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/8" THICK ASTM A36 CARBON STEEL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4" DIA. 304L SS DRAIN PIPE C/W C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6” THICK 8 LB/CU. FT. DENSITY CERAMIC FIBRE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240 TYPE 409 STAINLESS STEEL LIN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OVERLAP OF LINING SHEETS IN DIRECTION OF GAS FLOW @ HORIZON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UCTS AND IN DIRECTION OF RAIN FLOW @ VERTICAL STAC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24" x 24" CLEAR OPENING ACCESS DO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DERWICK BARBADOS.JPG"/>
          <p:cNvPicPr/>
          <p:nvPr/>
        </p:nvPicPr>
        <p:blipFill>
          <a:blip r:embed="rId1"/>
          <a:stretch/>
        </p:blipFill>
        <p:spPr>
          <a:xfrm>
            <a:off x="457200" y="304920"/>
            <a:ext cx="1916280" cy="931680"/>
          </a:xfrm>
          <a:prstGeom prst="rect">
            <a:avLst/>
          </a:prstGeom>
          <a:ln w="0">
            <a:noFill/>
          </a:ln>
        </p:spPr>
      </p:pic>
      <p:sp>
        <p:nvSpPr>
          <p:cNvPr id="8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ILENCE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/4" THICK ASTM A36 CARBON STEEL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2” THICK 8 LB/CU. FT. DENSITY CERAMIC FIBRE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100" spc="-1" strike="noStrike">
                <a:solidFill>
                  <a:srgbClr val="000000"/>
                </a:solidFill>
                <a:latin typeface="Calibri"/>
              </a:rPr>
              <a:t>- 26 GA 409SS SEPTUM L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4” THICK 8 LB/CU. FT. DENSITY BASALT WOOL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GLASS SILK CLOTH AND 304 SS MESH RETA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LIN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PERFORATED AT BAFFLE LOCATION ONL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ILENCER SPLITTER CONSTRUCTION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SILENCING SPLIT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FORATED FAC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SILENCING SPLITTER FRAM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BASALT WOOL WRAPPED WITH GLASS SILK CLOTH AND COVERED WI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04 STAINLESS STEEL MESH ON GAS FA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SONNEL PROTECTION SCREEN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 1/2-13F EXPANDED METAL, GALVANIZ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/8"-16 UNC ZN PL STAND-OFFS (8 1/2" LG APPROX.) FIELD WELDED TO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24" SQ. CENTER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ARDWARE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FLANGE CONNECTIONS: 3/4" DIA. ASTM A325 HOT DIP GALVANIZED BOLT S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/W TWO WASH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. FINI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TERNAL ONLY SURFACES OF SYSTE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LEAN TO SSPC SP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ONE COAT DIMETCOTE 9 INORGANIC ZINC PRI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.# PS470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.# PS470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#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jmavares\My Documents\My Pictures\Sedalia\Port Folio[sedalia paint shop 0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LM6000 Exhaust Stack 0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LM6000 Exhaust Stack 002.jpg"/>
          <p:cNvPicPr/>
          <p:nvPr/>
        </p:nvPicPr>
        <p:blipFill>
          <a:blip r:embed="rId2"/>
          <a:stretch/>
        </p:blipFill>
        <p:spPr>
          <a:xfrm>
            <a:off x="4343400" y="236232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LM6000 Exhaust Stack 003.jpg"/>
          <p:cNvPicPr/>
          <p:nvPr/>
        </p:nvPicPr>
        <p:blipFill>
          <a:blip r:embed="rId1"/>
          <a:stretch/>
        </p:blipFill>
        <p:spPr>
          <a:xfrm>
            <a:off x="5029200" y="1752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LM6000 Exhaust Stack 004.jpg"/>
          <p:cNvPicPr/>
          <p:nvPr/>
        </p:nvPicPr>
        <p:blipFill>
          <a:blip r:embed="rId2"/>
          <a:stretch/>
        </p:blipFill>
        <p:spPr>
          <a:xfrm>
            <a:off x="685800" y="25146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LM6000 Exhaust Stack 005.jpg"/>
          <p:cNvPicPr/>
          <p:nvPr/>
        </p:nvPicPr>
        <p:blipFill>
          <a:blip r:embed="rId3"/>
          <a:stretch/>
        </p:blipFill>
        <p:spPr>
          <a:xfrm>
            <a:off x="5029200" y="426708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21:14:32Z</dcterms:created>
  <dc:creator>Joaquin Mavares</dc:creator>
  <dc:description/>
  <dc:language>en-US</dc:language>
  <cp:lastModifiedBy>Joaquin Mavares</cp:lastModifiedBy>
  <dcterms:modified xsi:type="dcterms:W3CDTF">2010-11-02T21:53:15Z</dcterms:modified>
  <cp:revision>5</cp:revision>
  <dc:subject/>
  <dc:title>Slide 1</dc:title>
</cp:coreProperties>
</file>